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965-3CA5-404E-B6A4-0BA87EC6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D8A-6F2A-41DE-8055-C522040D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531-18F8-412C-A4E6-B957DEB0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C7B-1649-412A-872A-9B5F4602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C0A-8157-448A-84F0-60C36EB2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199-E64C-44BB-9171-5FD3637A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15FB-D2DB-427C-9305-4DF830EC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ECC-C2F6-4E90-B94D-090D94CB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63A-3A25-4DC9-BDCE-FC6B0EAD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E8A4-3F26-4C7A-AF85-40A22FB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488-C835-497B-9876-68065CC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621-7A50-4E2E-9321-B1D0974E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4161-E570-4891-BEB9-743BEE0E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0769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6600cc"/>
                </a:solidFill>
                <a:latin typeface="Arial"/>
              </a:rPr>
              <a:t>Exploring instruments</a:t>
            </a:r>
            <a:br>
              <a:rPr sz="8800"/>
            </a:br>
            <a:br>
              <a:rPr sz="33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nstruments can we find in the classroom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2378340000[1]"/>
          <p:cNvPicPr/>
          <p:nvPr/>
        </p:nvPicPr>
        <p:blipFill>
          <a:blip r:embed="rId1"/>
          <a:stretch/>
        </p:blipFill>
        <p:spPr>
          <a:xfrm>
            <a:off x="3733920" y="4952880"/>
            <a:ext cx="2747880" cy="172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EN00725_0000[1]"/>
          <p:cNvPicPr/>
          <p:nvPr/>
        </p:nvPicPr>
        <p:blipFill>
          <a:blip r:embed="rId2"/>
          <a:stretch/>
        </p:blipFill>
        <p:spPr>
          <a:xfrm>
            <a:off x="6705720" y="1752480"/>
            <a:ext cx="170640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EN00065_0000[1]"/>
          <p:cNvPicPr/>
          <p:nvPr/>
        </p:nvPicPr>
        <p:blipFill>
          <a:blip r:embed="rId3"/>
          <a:stretch/>
        </p:blipFill>
        <p:spPr>
          <a:xfrm>
            <a:off x="2362320" y="1752480"/>
            <a:ext cx="1401480" cy="13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j02251560000[1]"/>
          <p:cNvPicPr/>
          <p:nvPr/>
        </p:nvPicPr>
        <p:blipFill>
          <a:blip r:embed="rId4"/>
          <a:stretch/>
        </p:blipFill>
        <p:spPr>
          <a:xfrm>
            <a:off x="304920" y="1828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j03293080000[1]"/>
          <p:cNvPicPr/>
          <p:nvPr/>
        </p:nvPicPr>
        <p:blipFill>
          <a:blip r:embed="rId5"/>
          <a:stretch/>
        </p:blipFill>
        <p:spPr>
          <a:xfrm>
            <a:off x="228600" y="4876920"/>
            <a:ext cx="18162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j03106780000[1]"/>
          <p:cNvPicPr/>
          <p:nvPr/>
        </p:nvPicPr>
        <p:blipFill>
          <a:blip r:embed="rId6"/>
          <a:stretch/>
        </p:blipFill>
        <p:spPr>
          <a:xfrm rot="20498400">
            <a:off x="1980720" y="3733560"/>
            <a:ext cx="12398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j01520950000[1]"/>
          <p:cNvPicPr/>
          <p:nvPr/>
        </p:nvPicPr>
        <p:blipFill>
          <a:blip r:embed="rId7"/>
          <a:stretch/>
        </p:blipFill>
        <p:spPr>
          <a:xfrm>
            <a:off x="7238880" y="3200400"/>
            <a:ext cx="158760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CDD00600_0000[1]"/>
          <p:cNvPicPr/>
          <p:nvPr/>
        </p:nvPicPr>
        <p:blipFill>
          <a:blip r:embed="rId8"/>
          <a:stretch/>
        </p:blipFill>
        <p:spPr>
          <a:xfrm>
            <a:off x="4343400" y="2057400"/>
            <a:ext cx="185112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3036350000[1]"/>
          <p:cNvPicPr/>
          <p:nvPr/>
        </p:nvPicPr>
        <p:blipFill>
          <a:blip r:embed="rId9"/>
          <a:stretch/>
        </p:blipFill>
        <p:spPr>
          <a:xfrm>
            <a:off x="7086600" y="426708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3352680" y="3581280"/>
            <a:ext cx="335304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n you name them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The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395910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Viol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2743200"/>
            <a:ext cx="4724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use a wooden bo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Gareth\AppData\Local\Microsoft\Windows\Temporary Internet Files\Content.IE5\U4571BIX\MPj0405478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4572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lu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1480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Gareth\AppData\Local\Microsoft\Windows\Temporary Internet Files\Content.IE5\H3FTJEWF\MPj01750340000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4624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Bass Dr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Cj03036350000[1]"/>
          <p:cNvPicPr/>
          <p:nvPr/>
        </p:nvPicPr>
        <p:blipFill>
          <a:blip r:embed="rId1"/>
          <a:stretch/>
        </p:blipFill>
        <p:spPr>
          <a:xfrm>
            <a:off x="762120" y="2057400"/>
            <a:ext cx="2884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4114800" y="2514600"/>
            <a:ext cx="47242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 and plast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fit is with a bea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rench Ho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Gareth\AppData\Local\Microsoft\Windows\Temporary Internet Files\Content.IE5\7YV02QGH\MPj02896890000[1].jpg"/>
          <p:cNvPicPr/>
          <p:nvPr/>
        </p:nvPicPr>
        <p:blipFill>
          <a:blip r:embed="rId1"/>
          <a:stretch/>
        </p:blipFill>
        <p:spPr>
          <a:xfrm>
            <a:off x="762120" y="1676520"/>
            <a:ext cx="28447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Clari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876920" y="1676520"/>
            <a:ext cx="37335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lastic and met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 using a re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Users\Gareth\AppData\Local\Microsoft\Windows\Temporary Internet Files\Content.IE5\H3FTJEWF\MPj01750300000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6:15Z</dcterms:created>
  <dc:creator>hroberts</dc:creator>
  <dc:description/>
  <dc:language>en-US</dc:language>
  <cp:lastModifiedBy>Gareth Pitchford</cp:lastModifiedBy>
  <dcterms:modified xsi:type="dcterms:W3CDTF">2007-09-24T13:27:16Z</dcterms:modified>
  <cp:revision>9</cp:revision>
  <dc:subject/>
  <dc:title>Exploring instruments  Year 2</dc:title>
</cp:coreProperties>
</file>