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99F-173B-4206-AC0A-070C24D6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6FB-31ED-44DB-AF53-5F64E11E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2EC-69B5-4688-9DD7-B7167BAD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5C8-29BA-4068-93C6-BF3BD8DB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5A2-D692-480B-B2AB-281A9AD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BA2-05B0-46A6-B5E0-231BFA2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BD1-91DD-49C1-9F74-5A9DC1D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DA1-0C30-458F-8661-4BAFFA5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660-4259-4985-880E-3FD0F9DF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897-069A-4C24-A03C-A08FDB2B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B39-4AD4-4B78-8B0D-65E0CE5A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1B2-B840-42DA-9857-646927F1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0FD8-7324-43D1-A0EF-69613323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0769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6600cc"/>
                </a:solidFill>
                <a:latin typeface="Arial"/>
              </a:rPr>
              <a:t>Exploring instruments</a:t>
            </a:r>
            <a:br>
              <a:rPr sz="8800"/>
            </a:br>
            <a:br>
              <a:rPr sz="33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nstruments can we find in the classroom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2378340000[1]"/>
          <p:cNvPicPr/>
          <p:nvPr/>
        </p:nvPicPr>
        <p:blipFill>
          <a:blip r:embed="rId1"/>
          <a:stretch/>
        </p:blipFill>
        <p:spPr>
          <a:xfrm>
            <a:off x="3733920" y="4952880"/>
            <a:ext cx="2747880" cy="172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EN00725_0000[1]"/>
          <p:cNvPicPr/>
          <p:nvPr/>
        </p:nvPicPr>
        <p:blipFill>
          <a:blip r:embed="rId2"/>
          <a:stretch/>
        </p:blipFill>
        <p:spPr>
          <a:xfrm>
            <a:off x="6705720" y="1752480"/>
            <a:ext cx="1706400" cy="11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MCEN00065_0000[1]"/>
          <p:cNvPicPr/>
          <p:nvPr/>
        </p:nvPicPr>
        <p:blipFill>
          <a:blip r:embed="rId3"/>
          <a:stretch/>
        </p:blipFill>
        <p:spPr>
          <a:xfrm>
            <a:off x="2362320" y="1752480"/>
            <a:ext cx="1401480" cy="13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Cj02251560000[1]"/>
          <p:cNvPicPr/>
          <p:nvPr/>
        </p:nvPicPr>
        <p:blipFill>
          <a:blip r:embed="rId4"/>
          <a:stretch/>
        </p:blipFill>
        <p:spPr>
          <a:xfrm>
            <a:off x="304920" y="18288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MCj03293080000[1]"/>
          <p:cNvPicPr/>
          <p:nvPr/>
        </p:nvPicPr>
        <p:blipFill>
          <a:blip r:embed="rId5"/>
          <a:stretch/>
        </p:blipFill>
        <p:spPr>
          <a:xfrm>
            <a:off x="228600" y="4876920"/>
            <a:ext cx="18162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Cj03106780000[1]"/>
          <p:cNvPicPr/>
          <p:nvPr/>
        </p:nvPicPr>
        <p:blipFill>
          <a:blip r:embed="rId6"/>
          <a:stretch/>
        </p:blipFill>
        <p:spPr>
          <a:xfrm rot="20498400">
            <a:off x="1980720" y="3733560"/>
            <a:ext cx="12398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Cj01520950000[1]"/>
          <p:cNvPicPr/>
          <p:nvPr/>
        </p:nvPicPr>
        <p:blipFill>
          <a:blip r:embed="rId7"/>
          <a:stretch/>
        </p:blipFill>
        <p:spPr>
          <a:xfrm>
            <a:off x="7238880" y="3200400"/>
            <a:ext cx="158760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MCDD00600_0000[1]"/>
          <p:cNvPicPr/>
          <p:nvPr/>
        </p:nvPicPr>
        <p:blipFill>
          <a:blip r:embed="rId8"/>
          <a:stretch/>
        </p:blipFill>
        <p:spPr>
          <a:xfrm>
            <a:off x="4343400" y="2057400"/>
            <a:ext cx="185112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MCj03036350000[1]"/>
          <p:cNvPicPr/>
          <p:nvPr/>
        </p:nvPicPr>
        <p:blipFill>
          <a:blip r:embed="rId9"/>
          <a:stretch/>
        </p:blipFill>
        <p:spPr>
          <a:xfrm>
            <a:off x="7086600" y="4267080"/>
            <a:ext cx="1724040" cy="2362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9"/>
          <p:cNvSpPr/>
          <p:nvPr/>
        </p:nvSpPr>
        <p:spPr>
          <a:xfrm>
            <a:off x="3352680" y="3581280"/>
            <a:ext cx="335304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n you name them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"/>
              </a:rPr>
              <a:t>The Trump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Pj0395910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Viol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2743200"/>
            <a:ext cx="4724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use a wooden bo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Gareth\AppData\Local\Microsoft\Windows\Temporary Internet Files\Content.IE5\U4571BIX\MPj0405478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3505320" cy="4572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lu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11480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Gareth\AppData\Local\Microsoft\Windows\Temporary Internet Files\Content.IE5\H3FTJEWF\MPj01750340000[1].jpg"/>
          <p:cNvPicPr/>
          <p:nvPr/>
        </p:nvPicPr>
        <p:blipFill>
          <a:blip r:embed="rId1"/>
          <a:stretch/>
        </p:blipFill>
        <p:spPr>
          <a:xfrm>
            <a:off x="762120" y="1600200"/>
            <a:ext cx="2946240" cy="4419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Bass Dr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Cj03036350000[1]"/>
          <p:cNvPicPr/>
          <p:nvPr/>
        </p:nvPicPr>
        <p:blipFill>
          <a:blip r:embed="rId1"/>
          <a:stretch/>
        </p:blipFill>
        <p:spPr>
          <a:xfrm>
            <a:off x="762120" y="2057400"/>
            <a:ext cx="2884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4114800" y="2514600"/>
            <a:ext cx="472428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 and plasti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fit is with a bea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rench Ho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Gareth\AppData\Local\Microsoft\Windows\Temporary Internet Files\Content.IE5\7YV02QGH\MPj02896890000[1].jpg"/>
          <p:cNvPicPr/>
          <p:nvPr/>
        </p:nvPicPr>
        <p:blipFill>
          <a:blip r:embed="rId1"/>
          <a:stretch/>
        </p:blipFill>
        <p:spPr>
          <a:xfrm>
            <a:off x="762120" y="1676520"/>
            <a:ext cx="2844720" cy="426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Clarin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4876920" y="1676520"/>
            <a:ext cx="37335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lastic and met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 using a re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C:\Users\Gareth\AppData\Local\Microsoft\Windows\Temporary Internet Files\Content.IE5\H3FTJEWF\MPj01750300000[1].jpg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36:15Z</dcterms:created>
  <dc:creator>hroberts</dc:creator>
  <dc:description/>
  <dc:language>en-US</dc:language>
  <cp:lastModifiedBy>Gareth Pitchford</cp:lastModifiedBy>
  <dcterms:modified xsi:type="dcterms:W3CDTF">2007-09-24T13:27:16Z</dcterms:modified>
  <cp:revision>9</cp:revision>
  <dc:subject/>
  <dc:title>Exploring instruments  Year 2</dc:title>
</cp:coreProperties>
</file>